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8779-56AE-47ED-B52F-CCAFAFD7A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8D81-8EC8-428E-BA41-34A0B33E0A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D88D-6908-44A7-8341-E8711A3628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er tačke su male „okidačke“ zone na telu, koje na palpaciju reaguju lokalnim i udaljenim bolom. U ovim zonama električni otpor kože je niži nego na okolnoj koži. Kada se one stimulišu laserom ili drugim fizikalnim modalitetima, može da se smanji ili da nestane lokalni i udaljeni bol i da se kožni otpor normalizu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er i akupunkturne tačke pretražuju se i identifikuju ommetrom. Elektroda za identifikaciju je u obliku sonde, kao što je laserska, a referentna je u obliku valka i drži se u ruci. Sniženi otpor kože može da se prikaže vizuelno i akustičk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CC87-8C0A-4C1A-A105-0E15C548A7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C7A3-B0C5-4BC8-9579-D09FF9482C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atom primi (apsorbuje) foton, on prelazi u više energetsko stanje. Ta pojava se zove „pobuđivanje atoma“. To stanje je nestabilno i traje svega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9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, posle čega se atom vraća na prvobitni energetski nivo, emitujući primljeni foton. Opisani način emisije fotona naziva s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ONTANA EMISIJA FOTONA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taj način nastaje obična svetl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koliko se atom već nalazi u pobuđenom stanju i kao takav primi foton, ne nastaje apsorpcija fotona, već izbijanje fotona iz pobuđenog atoma. Sada postoje 2 fotona: jedan koji nije apsorbovan i jedan izbijen iz atoma u pobuđenom stanju. Ta 2 fotona izazivaju lančanu reakciju jer izbijaju nove parove fotona, koji se umnožavaju geometrijskom progresijom. Opisani način emisije fotona  naziva s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IMULISANA EMISIJA FOTON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Tako nastaje laserski zrak. Svi fotoni su na istom energetskom nivou  i u istoj fazi i prostiru se u istom pravcu, po čemu se laserski zrak razlikuje od vidljive svetl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EF8D-2EFB-411D-B95F-87F89AAFC9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211640"/>
            <a:ext cx="5486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истем за побуђивањ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ствара такву активну средину у којој је број побуђених атома већи од броја атома у основном стању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тоје следеће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методе побуђивањ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птичк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побуђивање (кристални ласер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електричн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ажњењ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гасни и полупроводнички ласер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буђивање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хемијском реакциј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хемијски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ласери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асно пражњењ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гасно-динамички ласер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ктивна средина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ктивна материја у којој се постиж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рзна популација ато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зависности од врсте ласера она мо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ти у: гасном, течном и чврстом стањ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зонаторни систем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 паралелно поставље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гледа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д којих је једн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тпуно рефлектујућ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ма улогу да створене фотоне поново врати у активну средину, који ће наставити реакцију побуђива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D037-7803-4E89-80CA-9EC2FEF2FB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4066B559-BB24-4C94-A403-BFC3821F6FBC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F488EFF6-C265-40B2-8137-792439F266A5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" name="Picture 10" descr=""/>
          <p:cNvPicPr/>
          <p:nvPr/>
        </p:nvPicPr>
        <p:blipFill>
          <a:blip r:embed="rId2"/>
          <a:stretch/>
        </p:blipFill>
        <p:spPr>
          <a:xfrm flipH="1">
            <a:off x="7596000" y="33336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87EC3D73-3756-4EA7-8C5D-1769D51EF825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 flipH="1">
            <a:off x="7885080" y="1890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8EB33FF0-47A9-484E-AE48-CD1F4E41E154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10" descr="C:\Users\skevin\Desktop\sanja edukacija vr banja\13234173252678_medicinski_fax_logo_za_sajt.jpg"/>
          <p:cNvPicPr/>
          <p:nvPr/>
        </p:nvPicPr>
        <p:blipFill>
          <a:blip r:embed="rId2"/>
          <a:srcRect l="33153" t="14477" r="33707" b="0"/>
          <a:stretch/>
        </p:blipFill>
        <p:spPr>
          <a:xfrm>
            <a:off x="7885080" y="189000"/>
            <a:ext cx="8622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6F90CE25-A7D5-433D-A850-24B73A2794F1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Straight Connector 2"/>
          <p:cNvSpPr/>
          <p:nvPr/>
        </p:nvSpPr>
        <p:spPr>
          <a:xfrm>
            <a:off x="457200" y="1341360"/>
            <a:ext cx="8143920" cy="0"/>
          </a:xfrm>
          <a:prstGeom prst="line">
            <a:avLst/>
          </a:prstGeom>
          <a:ln w="38160">
            <a:solidFill>
              <a:srgbClr val="f000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2"/>
          <a:stretch/>
        </p:blipFill>
        <p:spPr>
          <a:xfrm flipH="1"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597FFC59-27B0-4B40-BDAE-BAE7D3D275BB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0" descr=""/>
          <p:cNvPicPr/>
          <p:nvPr/>
        </p:nvPicPr>
        <p:blipFill>
          <a:blip r:embed="rId2"/>
          <a:stretch/>
        </p:blipFill>
        <p:spPr>
          <a:xfrm flipH="1">
            <a:off x="7956360" y="11592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8" name="Text Box 8"/>
          <p:cNvGrpSpPr/>
          <p:nvPr/>
        </p:nvGrpSpPr>
        <p:grpSpPr>
          <a:xfrm>
            <a:off x="-60480" y="6053040"/>
            <a:ext cx="9259920" cy="549360"/>
            <a:chOff x="-60480" y="6053040"/>
            <a:chExt cx="9259920" cy="549360"/>
          </a:xfrm>
        </p:grpSpPr>
        <p:pic>
          <p:nvPicPr>
            <p:cNvPr id="239" name="Text Box 8" descr=""/>
            <p:cNvPicPr/>
            <p:nvPr/>
          </p:nvPicPr>
          <p:blipFill>
            <a:blip r:embed="rId1"/>
            <a:stretch/>
          </p:blipFill>
          <p:spPr>
            <a:xfrm>
              <a:off x="-60480" y="6053040"/>
              <a:ext cx="9259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0" y="6093000"/>
              <a:ext cx="9144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 algn="ctr">
                <a:lnSpc>
                  <a:spcPct val="12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Доц. др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.</a:t>
              </a:r>
              <a:r>
                <a:rPr b="1" lang="sr-CS" sz="1800" spc="-1" strike="noStrike">
                  <a:solidFill>
                    <a:srgbClr val="000000"/>
                  </a:solidFill>
                  <a:latin typeface="Verdana"/>
                </a:rPr>
                <a:t>Лукови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1" name="TextBox 1"/>
          <p:cNvGrpSpPr/>
          <p:nvPr/>
        </p:nvGrpSpPr>
        <p:grpSpPr>
          <a:xfrm>
            <a:off x="-49320" y="3968640"/>
            <a:ext cx="9259920" cy="981360"/>
            <a:chOff x="-49320" y="3968640"/>
            <a:chExt cx="9259920" cy="981360"/>
          </a:xfrm>
        </p:grpSpPr>
        <p:pic>
          <p:nvPicPr>
            <p:cNvPr id="242" name="TextBox 1" descr=""/>
            <p:cNvPicPr/>
            <p:nvPr/>
          </p:nvPicPr>
          <p:blipFill>
            <a:blip r:embed="rId2"/>
            <a:stretch/>
          </p:blipFill>
          <p:spPr>
            <a:xfrm>
              <a:off x="-49320" y="3968640"/>
              <a:ext cx="925992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4400" y="4005360"/>
              <a:ext cx="9144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Verdana"/>
                </a:rPr>
                <a:t>ЛАСЕРОТЕРАПИЈА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4" name="Rectangle 1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6" name="TextBox 1"/>
          <p:cNvGrpSpPr/>
          <p:nvPr/>
        </p:nvGrpSpPr>
        <p:grpSpPr>
          <a:xfrm>
            <a:off x="-103320" y="2266920"/>
            <a:ext cx="9259920" cy="890640"/>
            <a:chOff x="-103320" y="2266920"/>
            <a:chExt cx="9259920" cy="890640"/>
          </a:xfrm>
        </p:grpSpPr>
        <p:pic>
          <p:nvPicPr>
            <p:cNvPr id="247" name="TextBox 1" descr=""/>
            <p:cNvPicPr/>
            <p:nvPr/>
          </p:nvPicPr>
          <p:blipFill>
            <a:blip r:embed="rId3"/>
            <a:stretch/>
          </p:blipFill>
          <p:spPr>
            <a:xfrm>
              <a:off x="-103320" y="2266920"/>
              <a:ext cx="92599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-44280" y="2301840"/>
              <a:ext cx="9144000" cy="76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Универзитет у Кр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гујевцу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ФАКУЛТЕТ МЕДИЦИНСКИХ НАУ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9" name="Picture 10" descr=""/>
          <p:cNvPicPr/>
          <p:nvPr/>
        </p:nvPicPr>
        <p:blipFill>
          <a:blip r:embed="rId4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ПОДЕЛА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80" name="Text Placeholder 4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ма начину емитовањ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а видљивом светлошћу од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400-780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а невидљивом светлошћу од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80-1500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Placeholder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рема извору побуд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4720" y="2349000"/>
            <a:ext cx="40417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врсте (рубински, неодијумски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ч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ас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лекулар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Јонс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лектројонизацио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асодинамич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Хемијс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лазме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ПОДЕЛА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85" name="Text Placeholder 4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ма начину емитовањ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инуира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пулсни 50-64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Placeholder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ема извору побуд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тич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 коришћењем самосталног пражње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лектројонизацио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плот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емијс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комбинацио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ЛАСЕРИ У МЕДИЦИН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 коагулирајућим дејств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ируш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рапијски (биостимулативни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ЛАСЕРИ СА КОАГУЛИШУЋИМ ДЕЈСТВОМ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аласна дужина &lt; 600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псорбују се у пигментима (меланину и хемоглобину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аложе 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ктивирају Т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hr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- за заустављање крварења и облитерације ситних крвних судова (око, кожа, ретина), скидање тетоважа, невуса, брадавица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ргонски лас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За заустављање крварења у ДС, скидање полипа и неоплазми ДС, РС,УГС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одијумски лас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ХИРУРШКИ ЛАСЕР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аласна дужина&gt;1100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псорбује се у води, тренутно испаравањ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асерски скалпел”: бескрвни, узани, стерилни резов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 операције паренхимских органа, код гнојних обољења, малигних обољења и поремећаја коагул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гљен-диоксидни лас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Механизам деловања биостимулативних ласера 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чан механиза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још није у потпуности утврђе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иако се на том пољу врло интензивно ради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а дејства ласеро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можемо да поделимо на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марн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дносно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иректн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директн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ТЕРАПИЈСКИ (БИОСТИМУЛАТИВНИ) ЛАСЕР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сери ниске снаге (хладни ласери);,,меки,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ки имају само једну, а неки више таласних дужина на излаз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рапијски ласер (600-1100 н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знатно се апсорбују у води и пигментима, па дубље продире у ткива – биостимулатив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елијумнеонск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He-Ne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галијумарсенс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Ga-As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олупроводнич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ПРОДОРНОСТ Б</a:t>
            </a: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ИОСТИМУЛАТИВНОГ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071360"/>
            <a:ext cx="81439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орност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ласерског сноп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32,8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m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је на нивоу кож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(0,5 до 0,8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cm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A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дио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6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m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0 м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-3 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проводнички ласер 95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m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одорност и до 5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8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92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m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3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Зависи од таласне дужине и особина тки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БИОЛОШКО ДЕЈСТВО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плотни ефек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ханички ефек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јава слободних радика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тохемијски ефек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јава ендотоксин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тоелектрични ефек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Биолошко дејство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Основни механизам дејства је биолошка интереакција са живим ткивом-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фотобиомодул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ктуре које апсорбују енергију фотона-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хромофоре: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еланин, хемоглобин, родопсин, цитохром у митохондријама, ћелијски протеини, ензи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кива изложена хипоксији из било ког разлога (едем,упала, повреда..)много су подложнија деловању ласера него здрава тки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577800" y="2276640"/>
            <a:ext cx="81709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nstei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1917. године хипотеза о индукованој емисиј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20000"/>
              </a:lnSpc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ov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horov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1964. Нобелову награду за физику развоја ласе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20000"/>
              </a:lnSpc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walow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1981. Нобелову награду за ласерску спектроскопиј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531720" y="601560"/>
            <a:ext cx="735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ИСТОРИЈАТ ЛАС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Straight Connector 2"/>
          <p:cNvSpPr/>
          <p:nvPr/>
        </p:nvSpPr>
        <p:spPr>
          <a:xfrm>
            <a:off x="531720" y="1341360"/>
            <a:ext cx="8143920" cy="0"/>
          </a:xfrm>
          <a:prstGeom prst="line">
            <a:avLst/>
          </a:prstGeom>
          <a:ln w="38160">
            <a:solidFill>
              <a:srgbClr val="f000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ТЕРАПИЈСКО ДЕЛОВАЊЕ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иостимулатив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ормализује ћелијски метаболиз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брзава ћелијску деобу (митозу) и синтезу ДНК и РН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већава број колагених влакана и синтезу колаге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већава синтезу АТ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брзава размену кроз ћелијску мембран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ења дејство ензима у базалном слоју епи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ТЕРАПИЈСКО ДЕЛОВАЊЕ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8360" y="1071720"/>
            <a:ext cx="81439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Аналгетско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стумулише “брза” бета-А влакна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te control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Блокира пренос кроз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C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ферентна влакна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стимулише продукцију бета-ендорфирин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нижава брадикини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тиинфламатор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мањује лучење простагландин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бољшава фагоцитоз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ња интерлеукине и хистами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мунолошк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упресија Т и Б лимфоци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дужено преживљавање трансплата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Клинички ефекти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мањење запаљења (антиинфламаторн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 циркулације и неоангиогене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 лимфотока (антиедематозн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 функције везивног ткива и убрзано зарастање рана (трофичк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мањење бола (аналгетск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Дозирање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есто приме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рста сонде(таласна дужин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нага сон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реквен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реме озрачива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купан број третма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Техника примен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413000"/>
            <a:ext cx="6130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енирајући 15-3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 grip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тач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серопунктура (над рефлексогеним зонам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4" descr="C:\Users\pokon\Desktop\FAKULTET\SILABUSI ZA 2014\Sanja nastavne jedinice\SLIKE ZA PREDAVANJA\Laser sonda.jpg"/>
          <p:cNvPicPr/>
          <p:nvPr/>
        </p:nvPicPr>
        <p:blipFill>
          <a:blip r:embed="rId1"/>
          <a:stretch/>
        </p:blipFill>
        <p:spPr>
          <a:xfrm>
            <a:off x="6227640" y="4508640"/>
            <a:ext cx="2032200" cy="16812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C:\Users\pokon\Desktop\FAKULTET\SILABUSI ZA 2014\Sanja nastavne jedinice\SLIKE ZA PREDAVANJA\laseroterapia3.jpg"/>
          <p:cNvPicPr/>
          <p:nvPr/>
        </p:nvPicPr>
        <p:blipFill>
          <a:blip r:embed="rId2"/>
          <a:stretch/>
        </p:blipFill>
        <p:spPr>
          <a:xfrm>
            <a:off x="6227640" y="1459080"/>
            <a:ext cx="20322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ДОЗИРАЊ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8360" y="1341360"/>
            <a:ext cx="81439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Фреквенција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 - 10 Hz спа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змолит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ич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0 - 60 Hz аналгетс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00 - 600 Hz трофич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преко 1000 Hz антинфламатор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Снага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5 - 10 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акупункту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50 - 70 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скенирајућ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Време трајања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 - 10 min, максим. 30 m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Енергија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4Ј, 6Ј/cm² ... максимално 68 Ј/cm 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ЛАСЕР ВИСОКОГ ИНТЕНЗИТЕТ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лазна снага је у просеку 30-50 пута већа у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поређењ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а конвенционалним „хладним“ терапијским ласери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Оптималан однос апсорпције и пенетр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ограничен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дубин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продирања у ткиво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поткожном ткиву се стварају фотомеханички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тала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који блокирају бо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ГЛАВНИ МЕДИЦИНСКИ </a:t>
            </a: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ЕФЕКТ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Биостимулација +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фотомеханичка         стимулација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фотомеханички талас  стимулише слободне нервне завршетке и друге рецепторе за бол у поткожном ткиву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блокира путеве преношења бола у нервном систему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подстиче локалну микроциркулацију и подстиче лимфну дренаж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ГЛАВНИ МЕДИЦИНСКИ УЧИНЦ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генер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нажна и дуготрајна аналгез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нтиинфламатор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нтиедемaтозн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ПРИМЕН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онтинуирани м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птимални терап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ијски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ефекат 810/980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nm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или 1064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nm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убока пенетрација(10-12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cm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!) снаге до 12W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ез нежељених ефека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улсни м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аласном дужином од ~ 1000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n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Фреквенца понављања пулса 10-30 Hz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ментално ослоба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ање од бол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Терапијски третман траје од 10-20 </a:t>
            </a: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бично се спроводи 10-15 третмана</a:t>
            </a: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ДЕФИНИЦИЈА ЛАСЕРСКЕ СВЕТЛОСТ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ght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plification by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imulated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ission of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вор веома усмереног снопа кохерентне монохроматске светл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нтана и стимулисана зраче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483920"/>
            <a:ext cx="81439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ТРАУМАТОЛОГИЈА И СПОРТСКА МЕДИЦИНА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дисторзије, контузије, тендинити, тендовагинити, руптуре мишића, ентезити и ентезопатије, свежи преломи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ПРОМЕНЕ НА КРВНИМ СУДОВИМА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варикси,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lcus varicosum, Mb Raunauy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КОЖНЕ БОЛЕСТИ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екцем, акне, фурункули,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imp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,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h zoster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аналне фисуре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ране и опекотине, лимфед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ИНЕКОЛОГИЈА И УРОЛОГИЈА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днексити, ендоцервицити, ерозије грлића, маститис, уретрити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ФТАЛМОЛОГИЈА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ауком, аблација ретине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УМАТСКА ОБОЉЕЊА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паљенски у ремисији, дегенеративни, ванзглобни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КОНТРА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5000"/>
          </a:bodyPr>
          <a:p>
            <a:pPr marL="291600" indent="-29160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ш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алигнитет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еца - предео епифиза костију у развој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ео 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нфицирани делови,фотосензитивне рег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ео жл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зда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иреоидее, гонада и др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.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удноћа (трбух и крст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рчани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e maker (грудни кош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омбозе и тромбофлебитис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пилепсија (глав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МЕРЕ ЗАШТИТ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очари са посебним филтр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бро и равномерно осветљена просторија, без огледала, без лакираних површ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гледати у ласерски сноп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Особине ласерске светлост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04880" y="2421000"/>
            <a:ext cx="46656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57200" indent="-457200"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охерентнос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ви фотони у истој фази, исте Е и исти правац простирањ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онохроматичнос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једна бој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Усмеренос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минимално расипањ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5370480" y="2708280"/>
            <a:ext cx="3259080" cy="3629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2"/>
          <a:srcRect l="46072" t="0" r="9253" b="50023"/>
          <a:stretch/>
        </p:blipFill>
        <p:spPr>
          <a:xfrm>
            <a:off x="5370480" y="1498680"/>
            <a:ext cx="32590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Стимулисана емисија фотон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60" name="Picture 6" descr="C:\Users\pokon\Desktop\FAKULTET\SILABUSI ZA 2014\Sanja nastavne jedinice\SLIKE ZA PREDAVANJA\slika final.jpg"/>
          <p:cNvPicPr/>
          <p:nvPr/>
        </p:nvPicPr>
        <p:blipFill>
          <a:blip r:embed="rId1"/>
          <a:stretch/>
        </p:blipFill>
        <p:spPr>
          <a:xfrm>
            <a:off x="900000" y="1413000"/>
            <a:ext cx="7344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Основни елементи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62" name="Picture 3" descr="C:\Users\pokon\Desktop\FAKULTET\SILABUSI ZA 2014\Sanja nastavne jedinice\SLIKE ZA PREDAVANJA\466px-Lasercons_svg.png"/>
          <p:cNvPicPr/>
          <p:nvPr/>
        </p:nvPicPr>
        <p:blipFill>
          <a:blip r:embed="rId1"/>
          <a:srcRect l="1371" t="14983" r="1638" b="3322"/>
          <a:stretch/>
        </p:blipFill>
        <p:spPr>
          <a:xfrm>
            <a:off x="1428840" y="2357280"/>
            <a:ext cx="6286320" cy="3286440"/>
          </a:xfrm>
          <a:prstGeom prst="rect">
            <a:avLst/>
          </a:prstGeom>
          <a:ln w="0">
            <a:noFill/>
          </a:ln>
        </p:spPr>
      </p:pic>
      <p:sp>
        <p:nvSpPr>
          <p:cNvPr id="263" name="Rounded Rectangle 3"/>
          <p:cNvSpPr/>
          <p:nvPr/>
        </p:nvSpPr>
        <p:spPr>
          <a:xfrm>
            <a:off x="2143080" y="300024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571760" y="2428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1356840" y="2625840"/>
            <a:ext cx="12978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Непропусн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огледал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ounded Rectangle 6"/>
          <p:cNvSpPr/>
          <p:nvPr/>
        </p:nvSpPr>
        <p:spPr>
          <a:xfrm>
            <a:off x="2916360" y="2643120"/>
            <a:ext cx="21286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Ласерска пумпа (извор енергије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ounded Rectangle 7"/>
          <p:cNvSpPr/>
          <p:nvPr/>
        </p:nvSpPr>
        <p:spPr>
          <a:xfrm>
            <a:off x="5072040" y="2533680"/>
            <a:ext cx="185724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Полупропусно огледал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ounded Rectangle 8"/>
          <p:cNvSpPr/>
          <p:nvPr/>
        </p:nvSpPr>
        <p:spPr>
          <a:xfrm>
            <a:off x="2714760" y="4286160"/>
            <a:ext cx="25714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Активни медијум у резонантној кутиј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6858000" y="3643200"/>
            <a:ext cx="157176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ЛАСЕРСКИ ЗРА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ОСНОВНИ ЕЛЕМЕНТИ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ктивно средств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резонантној кутији, заједно са пропуст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љ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вим и непропустљивим огледа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ножава фото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ше од половине честица су на вишем ниво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серска пумп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извор енергије за побуђивањ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онатор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ужава пут емитованих фотона и њихово дејство на активно сред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не га два паралелна огледала изме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ојих је активно средств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Подела ласера према енергији зрачења и ризику за ткив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II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ласе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искоенергетск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: у физикално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клас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високоенергетск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: ласерски нож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снага преко 500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cupational Safety and Health Administr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ПОДЕЛА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75" name="Text Placeholder 4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ма таласној дужин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а видљивом светлошћу од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400-780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n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а невидљивом светлошћу од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80-1500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n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Placeholder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 основу активног материјал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4720" y="2349000"/>
            <a:ext cx="40417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врсте (рубински, неодијумски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ч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ас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лекулар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Јонс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лектројонизацио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асодинамич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Хемијс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лазме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Info</cp:lastModifiedBy>
  <dcterms:modified xsi:type="dcterms:W3CDTF">2019-10-11T19:28:13Z</dcterms:modified>
  <cp:revision>661</cp:revision>
  <dc:subject/>
  <dc:title>PowerPoint-Präsentation</dc:title>
</cp:coreProperties>
</file>